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8DF-F9BA-4BC1-87DC-C1C6D2D1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8A4-0375-455A-9F2D-4917EF03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8D15-5C06-4D78-9660-F164418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1FFE-CF99-431B-8F17-6747204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1975A-E485-4D3D-A166-733E257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2CE96-D516-43A8-AE6A-D429F309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40245-C8F5-4F06-9BC4-A1E3FB4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43E26-B175-4328-9699-5B9BEF6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70D2-D2E0-42F7-98DE-82488C9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0F22-D09D-48C9-AF8C-646A4094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130F4-3C38-401D-89A0-9AC2DF8E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30E57-2801-4530-9B41-75EA1DA8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8C5-AC78-4314-AC4C-F6619334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0CD2C-F628-4B71-9D97-99AE835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14D9F-726E-4063-AA8F-F8CFF00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71E8-F50E-40A8-AEC7-E627629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C0B5-8BEB-49EC-BE4A-0A187E2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A06F8-36FD-4B5D-9E1D-27FBF7E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2CFC-94BA-4557-93DB-AE3D8E8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5F4EF-4559-43CA-92D3-D20555E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71C22-FDEF-4AB3-98C0-FAF0BAE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81483-B0AD-45FC-93AF-89BCF9A3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79D11-2A21-47F7-AAE9-9C480A6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8BE-6D9A-4DC5-BE32-9736C5BC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4A007-3600-4EB3-B165-AD7609E0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3904F-DF99-4260-9E47-CFF6A488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499F-3EC0-4687-BC27-EBCE9C1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0DFD7-B80E-4550-88B2-9B052F1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EFC21-69C2-437D-95EB-7C8B152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CDF47-EF35-4749-B866-0EACAFF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908C9-1B1A-45A0-AF96-1AE6F47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98DEA-FEFD-40AC-BBE8-D2B2C01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12C9B-97F8-41A1-A699-D0DE7A0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0382-B6DA-4C6A-A91E-417C02F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4FC-AE52-45B5-8E41-33722E7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EB548-3105-447E-B613-C3170D4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291AE-EBC7-485D-ACDD-4070C8F1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4B052-1CB7-4DDA-A99E-E663A250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74313-00F3-4EC1-8CC8-6B1507F5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D70B4-989C-4B21-BAF6-6CEB2EA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62B00-FEA6-4415-8CBA-C3F14FC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CFA6E-4FA9-449D-8B1E-5CB83C2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3F21C-EE1B-4D21-8435-2F63B10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E49DE-92E7-4924-B508-DE966CA2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BCFD-FC56-4977-8BB7-0D51A9E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8658-5C14-4511-952D-098F919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14CBB-F3C6-42B2-87E4-2CCF4EA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1FDEB-A70F-4455-BD31-B8C37F08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40BEF-CE8F-4427-9B15-79D455C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66C0B-565D-473D-811D-A47575FD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26FF5-A428-4A28-8562-2ECA0026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25516-0852-4FF4-B242-FD6EA8BB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80C12-78E0-4B09-A246-D427EDF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1A544-2152-420B-BEF4-36137008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D8E18-4288-4B8A-A4FE-C8C99C01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27C9F-C918-4F99-A36D-E249FD0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FF6-8BFD-4CAE-94CA-B30463A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DEDA1-B576-4A88-B037-04730BF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F0272-9DBE-428B-9414-51E0A8F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35D44-2323-42D3-8E37-B760B66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9985D-7626-4A5D-801F-699BDE8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BC964-1246-4509-9A62-D9D201B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BDCF7-1A2A-4A06-9E8F-0ED63C4D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EF79F-3270-4A19-947E-E7CC463B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E7CD6-5E9E-4E80-8F41-0161754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C2C5E-E5A2-42AA-9021-9806083A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6AB21-277E-4A85-B5A4-D7C25948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F949-0F47-4E2B-B39E-6B797F2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ECC3B-798F-470E-A50D-B8D77FFF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14E25-4669-4193-AFE7-1211215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6C6D1-B523-4DB4-B1A0-5E1A0A79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D62E6-9ECB-443A-BD57-1602064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2ED2A-A953-41FD-93C4-307EC25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8EA9A-8FFB-486A-9C97-484BA31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9E1A7-8707-48F8-A9A4-DE3FC4F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FA0CD-514B-4AF2-8F14-267E172B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163EC-51DE-4CB9-A062-CEDA3AE9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A8AA4-8517-4CA7-81B7-10791CC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81D5-97C9-472B-99F8-F0F01F61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7387B-BB16-41C3-B8CF-CD41869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4FA71-C506-41D2-8771-11D600A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CFF8E-29B8-43C3-AD6B-4AD188A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B2696-24A3-4B42-A305-B977649A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2FE83-8095-476F-9C99-0E7F6BF4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FD1F3-12BA-40FC-9F2D-DFB295C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F6B8B-27E9-4C65-A7C7-B26FBC6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8F6B1-4BE8-4F0D-97F8-29F5C0F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3F34E-373F-4107-9C25-62BC391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74866-5585-4874-AA40-E07B0B2E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57F-7E57-44ED-B263-52C03AA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28664-6904-4C25-BE2C-9CACE8FA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59118-86F4-414F-9C0E-BC34FCD7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0BAAE-73BB-473B-AFF3-AB9DE34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09578-5EE6-4886-B9F4-0B4EA366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FFB52-6F46-4256-BC20-77B00EC1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7BBF2-2AB8-4D21-AF94-AF77C8B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7170A-92FD-4283-86B2-3F91E70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BA7D6-E3FE-471B-AC84-419125B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7CA3C-296C-4B66-B2FA-B9F96ED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3A771-ABAF-4E49-ADD2-0F00FFF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E13-6FAE-4249-9C5B-FD99FAF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4644B-59F7-4D08-B660-4BF7C3F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E4394-7FCD-4F23-B35D-E1E9F69C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AA783-B61D-4D7A-AC25-47B6F3D6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27786-A5A2-4C29-8D5B-586D5094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7697C-79F4-45F0-9158-3F42A7A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9704C-60B9-4F86-BB9C-E49B1D6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266E1-BB8C-44C9-AF81-D9BCC00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C2ED5-264A-4CF8-BBA3-5767147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A5523-2457-4703-8354-53D523D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FBB4C-3F5A-46B3-B405-2CBC0C4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25D-580B-4A2E-99F0-A8E4E15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6EF-C18A-4ACA-B9EE-BA4E74F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EACA1-41F5-4161-BB70-2D2B2F3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CA663-187A-4D17-8611-70F1F42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34AC8-E38A-44F0-A22D-420A1C1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59AE6-07BC-40DE-9537-AC0DBA31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B109F-4BED-4B01-85DE-4717AB5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3A9E7-2A58-42F5-B11B-02CB7BC0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638DC-B355-4569-9B4F-877AC14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0D9BF-076C-4570-8486-B60D4B4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D030B-BE9B-48C5-AAF1-FDCC4173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43F5F-D4B3-4087-BC63-A823C1B5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9B8E-A87B-43F6-9718-D8A495D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0EA30-F413-41DD-B8A3-213CC618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F64D2-5A8A-41AD-A64F-B10A93A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09916-4BC2-44E9-ADB1-F6A905AB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06367-93B5-4519-A087-E812132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3A903-AECA-4B33-A5CB-2E0A9FF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577E0-8E88-4AC9-B9D8-8BB00D93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B7907-7D89-48F6-85B9-A1ED6BFD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49AE6-274D-47E0-8DB5-67D976D6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574FF-561B-4ED7-BF9E-750DDBD3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22D4C-0C47-4017-80BA-52FFFD3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E94C-BB95-4248-85EF-30EDC28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9058B-AF43-4415-B77B-DE374FD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D5D1E-30C2-447D-9CB8-A5715A6E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8F016-4FCD-493F-A17C-715EE4F1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C1AA7-4601-49BA-8775-FD0A26F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A2944-DC3A-4446-AB3F-AC9D8C1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E432B-863E-4893-A140-9EBB4C7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E8C6C-0C50-44C6-9F39-3AAFA57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1B2A8-E91A-46BD-ABBC-66B9397E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A25B6-1DDE-4839-AC99-FDAA871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668864-A64F-4BC7-85E3-56E4C9D8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F559-3BAA-4318-92BB-256D0B4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F1106-7201-4AC1-BFAC-E2D5D23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B8617-FBEA-4A2C-8B47-DB8BBB2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7B37B4-4A84-4654-8E9B-ED9659EF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99E1FE-B298-4336-8F0E-B4D3251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1A4C3-7C2B-4DCA-9C81-424D8CE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76CE9-55EF-47DA-86E1-BCEDE00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9E750-9FAB-4B93-AEA3-159802F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1892D-D522-4463-954D-992CB91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8F399-61A2-4B9D-A122-741C8BA7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8EAB1-D5C7-4972-B44B-8129B463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A725-E859-4DB3-B463-E22D91CA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8AB30-8354-45A2-8F27-4888AEC8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3CB8A-D7FF-4923-A4DD-4C298260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505F9-733B-4AA4-853C-939A48D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775D1-CBE1-4FB6-9099-32C9E71B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F6C75-4FD4-4BD8-B533-77B759A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D93EB-9CC4-49CB-889F-35CC92A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5066E-EEC9-4917-8804-5C0DBCDE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2C612-A3EB-4F23-B50F-950F61D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81685-A5E4-48E1-8AB5-CDEAA6A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4258A-3735-4AAE-904B-7B6EEC3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DCF9-483E-4F5B-9DC4-5F99F491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AE724-6312-4FE9-B17D-00B6210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64223F-93AB-4739-9259-7EFB813A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7AD09-77D8-4884-A942-82DCAFDC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06344D-CB5B-4B4A-BFE0-C854383F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7B381-85CA-4C4E-AF5B-492DF71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E0CBE-84A8-40FA-8B6A-2A13661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A1520-A964-4C1A-9700-AAAF559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F7B54-7B22-4A36-B590-4796D2F2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EAB8B-07FC-4B94-A410-CFF791C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CEE58-C60A-4770-A3BE-2815E7D0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2240-217A-4F05-BF0A-C88D0A5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DFF8D-2EDB-4B42-944A-D6328E8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14735-0C38-4830-A5AE-AD68DD8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01346-A6A7-4A01-8925-6882B685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763329-47D4-4232-86B4-A2B88F94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577F8-473E-462D-9FDB-DDB8482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5F835-64E9-4B8E-9F93-7B284B54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5A6C6-70E7-4F7A-8203-447BB7D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A9E0D6-6251-49BE-B699-FCFEA40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09959-A8E5-4BA9-8F0C-E54C34AD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D6ECCC-0D4F-4E4B-AD00-DA02221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8350-AAE0-42D5-8C2F-5892EE4D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73D3C-C24B-44D1-8B33-9BAECB8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4150DC-3592-4C7D-870A-1A2F821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9A164-B72D-44CB-8F0E-72C313D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5D7C7C-1E77-4655-A133-99952D70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619505-3E51-48AB-9270-035554F9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14D10-2BEE-450B-A201-8F4054D9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96209-9A24-4DF3-B62D-3B8B3ECA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8A1C3C-0F57-493D-B30B-4A89F68B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6548FA-1DEB-4A0D-9BB2-B7DAAA3B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C8CD0C-33F5-49D2-AC47-9B043ADD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0381-249B-4C95-9EA4-3D5696D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C8C6ED-CAA0-44B3-B4F9-4AF8F463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59386-9471-42F3-B0B5-A7792A98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EDF106-0B53-48C9-9802-8CFFFDF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19112-0EDF-4794-9E48-5B17F73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22746A-2AA9-49BE-93F1-CC67A16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B0CE93-5D07-4593-B376-3F79008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C282B-F50F-44C9-97CC-A3DF1BDF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0ECE8A-FF4F-4303-AB72-62A8119A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3BA145-F6CC-4B8A-81FC-AA438336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13389-0DB1-414E-B6DE-C5261DB4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A491-26CF-4AC9-A6C3-E3AECE46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3C9AB-B2C1-454C-AC63-A8964B8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3886AA-697D-4167-8DAC-6754D2A9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A35F16-0196-4F8D-B440-33FF9D7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0BC461-FF2E-49B8-B37A-C7C6C6B4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525B48-7018-49CC-B291-14C6927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157CA-33ED-447E-B542-8A6F9722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DF9815-381B-4421-8F83-97F3979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A6FB11-66CC-4844-9F13-7FE0444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244E7F-B933-4760-B84C-A9E2632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F8D93E-5BEC-448D-904E-A735F19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E7D-C209-41A1-8C63-1244594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4BD0-5F7B-45A0-8E7C-5DAA24E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DA572A-5848-4549-B1A0-DD39C4C6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26CF94-6143-43A5-AE6A-89171368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CCE31-DC45-41A6-A736-E43E5D82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43DCCE-79DE-45FC-9D21-C37A070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670278-3160-49AD-9C9A-D6447254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C9B972-AA67-4327-9564-5DCE7D48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99C38A-FA70-4AA4-B04B-67356D2A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5B50DA-044D-4805-9483-186772F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6E45F7-8808-47A2-AFCF-41A45806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8A1F02-8F79-4FE4-9653-9D9F6B3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2988-18C6-4844-8274-C3B440D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CA6939-99CF-4147-942C-7B26AD6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66C607-F197-4672-BFD3-DF5C2730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A5F9DB-08BA-427C-9B56-8148AF79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27C386-FA59-431F-8934-E442843F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98493A-56FB-425E-844E-7F25566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4DCF4D-EEC6-42DF-924E-00E6767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815A6F-7E6D-4E31-AD35-383B7262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B4C0BC-E260-4819-A966-7F80C08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1FB12D-DCFD-4B0A-8D62-EFB45DE3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819D40-C314-4573-B782-58FBA5FE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FB30-AB00-4A0D-828D-52FE397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48B57E-295D-4368-8BB3-EF0DA33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F707A8-D4CA-4B08-8771-37FFDEF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0051AD-E635-47BA-8537-42DEEF8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373B0A-C183-4C8E-B521-FADD72D9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B83337-2527-48B6-ACCB-E9AEE4B0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F0D344-9DE2-4AA9-AA4C-F3AE03F5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DEAE60-A10D-4D37-AABE-58D4F43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581A21-207A-4D2D-B4AC-7076D33B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07B463-A81A-4F98-8C9C-D447BB8A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E38266-0E0C-4009-A6D6-57381D98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7536-2B9D-4975-99F2-8ED5C2D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AABA12-D884-48DD-8C4D-CCC7DD95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97E5FF-A4B8-4749-8497-C9D0DB7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25BFCD-606C-4DBB-9AFA-F4D71BC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553E03-055A-4755-BECF-8DB5943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2F89C0-2096-4630-91AC-83AFC4E0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0E1D7E-FFF5-47AB-A769-B09A8D8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0E3F71-ED04-41C8-A310-72E5C79A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B023BB-CB27-43F8-A360-9F917AA9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A78E63-D636-4C0A-B289-35CC8C0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E14F9B-58C8-463B-AA61-BF7EA0C6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FE1C-5AD2-4927-8B33-765DEE2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FEAAB8-3C0F-43A2-9B04-083E6F7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107DD2-8F68-4F9D-BD3E-A40C4155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5AA22E-6A8C-4D64-92AB-B42029EB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1EAD1C-B229-4CCA-B4B6-A152F06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49C5F-2B4A-4F76-B279-8879A6D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EE2211-90F5-4538-9350-D484C92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373810-168A-4E1D-A6B4-6B7CAF06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614AE-4359-463F-8A7A-B53189FB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161FC2-0FD1-49F8-B055-FEAD5584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9231D3-1B72-4798-A76F-E1390CF4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1BFD-7CD5-461C-ABBA-E16DB6E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3A3711-E01E-4DE4-A042-47E17F4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334DF1-54D7-4972-AFB7-11457AB5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CB89D-558C-4365-ADEA-E931768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405158-B04E-4023-AFE7-4CD2FA0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50AE64-5F03-4724-9CC9-B9A23CF0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E4864-CD84-436B-8AE0-2C7B949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5BC0DB-C302-400B-8BDC-A499832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719CA7-65D4-4821-BDF9-A8F39DB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0588F8-4BA1-4543-A74A-7986CAB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8FC0CE-CB61-4402-8162-B37FF2AD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9A3D-7E1B-4ED0-A705-96442E40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D0FCBC-D45F-4F14-815A-63C2B3C4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44183E-C31A-4123-AC07-51327D36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7E597A-3BD0-4AF4-8B9C-FEA744F2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122FC2-2ACC-4440-ACB1-7A1D2FB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45E2FB-B831-4FF5-B57E-B019388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D38F87-676C-479D-A0D2-CBA28482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C88D74-4632-4A19-9F69-F1973C6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736ED-34E4-4BEC-A3B4-D7BECA2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37EA3A-9A72-4458-AB91-438DF47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904E0B-61C3-46FE-A5E0-6D18967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65F1-A4F3-4872-A1ED-1DF23378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AF0EFC-8AD5-4304-8329-E587D8A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4DD6F5-6A1C-41D7-BA30-EAFE25C5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0F76D0-0813-46D0-9947-A14E06B0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2EC4-59D6-482B-A487-C3D96085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D144-BE78-42D5-AA81-9F8A13E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461-2016-4B1B-ADED-0A22287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4081-2BB2-49D0-976E-6EF70239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23FC0-C25A-4BA6-96C4-898D84B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820B-84B7-41A0-AF51-247BBFC1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AEFB-E575-403E-B56C-FCD89D9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D2AC-9A98-4BC9-99DF-2E668F2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06BB-E816-48A5-8F83-606A631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B03E-10A4-48AB-838D-91D6CF92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881E-D8A6-4850-9996-BC9FABF8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AD8D-8776-47DF-9228-97B20DA3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339E-8463-4E8B-8E5B-EDC2DAF4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219-855A-45DF-8117-0A706316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D703-EAF0-4D11-8AB2-695F099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DA8C-F0E4-459B-AA0C-FE656E4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0E5C-5C8F-4418-BE92-514FB1AB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259A-672A-48DD-B5CF-7ABDFCC0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C591-8AD5-4615-908C-6758471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6707-D231-4336-9A33-F7CA383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5B5D-2367-44C0-A789-10B8B09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A040-0C6E-4485-9536-3A564ED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6353-4576-415B-B858-CAD1C6E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7F13-E2FC-4B85-86E9-1C4550A6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AF8-B91A-4E24-8D2E-3984920C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CEBAB-D012-468C-A6CA-9AB3DEC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9D7A-67EE-476E-83AE-E013BA55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38EE-6402-41DE-85DD-5F75BBC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34B0-D66D-4AFF-9169-A805A8D7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029E-86FE-48A0-83E3-E34860E3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2BE2-739D-4337-A111-6E26F541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E3EF-A8E3-4317-8E9B-A369486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0CABA-3506-4987-BF12-5F3AC0E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AAA0-D203-4051-91A8-A8EDD70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63C9-67B2-4AB5-A8F4-397138C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F59-D9C2-456E-BE97-E05AA59F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39DD-F636-4D16-9BC9-304AEFCD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55A7-82EC-4300-9958-BBE6F1C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AF6E-51A5-4CE0-A962-AB3C09A2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E2CB-4553-42C3-9DA8-4F4DA0A0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CE74-5241-44A7-8485-B376FED5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690D-E9CE-4627-9177-043D6CDC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8879-F407-44E7-9137-BC5F33F5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A53C3-DEAA-4738-9FCF-3A33FA85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35D0-95E8-47A3-8B63-AEE5F07E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64DB-1B96-4195-B2CF-1478731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D6-4B00-475C-9AAE-E4D50B2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DC3F-1A47-44C2-8A05-ED409D8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DE55-3D6A-46FC-8411-F4DF1513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10E8-7530-4853-8C18-754201C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B1F0-0EA6-42CB-878E-029F2632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C009-EA42-49E9-BB78-38E7B60E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4D22D-1480-41FA-900A-5604A89E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B97F-EB12-48AE-BDA1-3A8C40B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436D-CE44-4D93-B061-20A97B45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3A5E-81E9-4BCF-A13B-E458769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0B25B-4E8C-4F3C-B466-272DE38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3F5-7F71-4F00-99BA-D124E0E8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57AA-3691-481D-B692-A8F4ABE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141B-6F81-4075-8601-1C75EBC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3193-7A0E-4CC6-81E7-AF6D4FB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6026-D739-42DE-B873-80181C4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E694A-6F60-4C6B-B28F-979611F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8AE4-E6A8-4D2B-AD6A-DFB40C44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3EB7-3134-45B2-891C-250B82A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97F7B-FBE3-43E5-9119-406BCC0F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99279-AAEB-4E42-AC42-2B570A0B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57BDA-7B54-46E6-8B94-34413C64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C41-8E4D-4825-92D9-B24CA085A3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C81-81AE-496E-9D99-C6435DA331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CB14-BA03-404E-BC21-763AA970E7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459-A8BA-40C3-8DD2-2E30A78D0D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058-4CC1-4531-8C82-004322723A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CAA-65B3-4FAA-B8D9-E105B60B5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916-175B-46F3-BF38-729CFEF57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AA2-490E-493D-A13C-5ADFC70E0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322D-4549-4BBE-BD71-F05D69849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1FB-1608-401B-B90A-27484619B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43AB-AF7D-4637-8612-A55036A05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BD21-3AAB-44AB-8FC3-E6855094D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DA62-B96A-4FD9-B210-38D1F998A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335-9DE5-46F6-9DB4-776500BE7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C2D-1238-4BE8-9478-4B0026338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46F5-DD9A-473D-A332-5B54584B2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2F8-03E0-413E-A4F3-C8C40DEE9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422-FE16-43E8-90E5-122E384E5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492C-52E9-4D9E-B278-F94826657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EA6-4F43-43AA-A7A5-32D26E04D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48E-A38B-4B2D-8562-CE45D81DB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DED-62AC-4EC3-B111-21F39293E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DE63-2A0A-4770-A77A-05714A987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853-2F47-430F-9E93-A82C255A3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0CF-71B4-4366-81C3-317BAB0BD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0F84-0CA2-4708-ABED-A0BD7D8347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60C-AA7C-494A-A224-43B8AF7A3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BE2-52ED-4D09-8299-E6B069A94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302-8EFB-4AD3-974B-A7F428448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A92-DD15-44B5-90B6-FED38C6C4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A999-BA0B-4E21-AAA1-6388CE5B1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DCA-CEFE-48FB-8111-8EE383134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FBD5-5AE8-485D-B59A-2DC77734C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40E-1201-4CF8-9455-4C7113ECD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A7E8-D025-476B-B319-F503368B2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CD0-2180-431B-9BA3-70F6639F7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6EA-87C7-4460-AFC4-A6BD1C8AF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994-8D07-47E7-A73A-FB73EBA44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4C3D-3FA4-47FB-92BE-A340EA4D8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E90-243D-441D-B07F-0BA2B8F58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3D9-8BD9-49C1-BBC9-4E2CE4AA1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61C-DE52-4E46-8472-E470BE78E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B2A-6A00-4BD0-9FBF-666F8A499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F662-4FBD-4859-8E47-0AFE2ACBA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011E-686B-49D7-855B-00A3CBBF03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AB11-205F-4B43-9722-17D7C8E9D2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E96-EADE-435F-9583-0F3EB60A6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1C08-7725-470C-BE75-926CDE00E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D36-762A-49FD-89D0-8D3FF54BC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2A16-49BA-4514-8D48-7CC5304F0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3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3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681120" y="2981160"/>
            <a:ext cx="778176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69633" descr=""/>
          <p:cNvPicPr/>
          <p:nvPr/>
        </p:nvPicPr>
        <p:blipFill>
          <a:blip r:embed="rId1"/>
          <a:stretch/>
        </p:blipFill>
        <p:spPr>
          <a:xfrm>
            <a:off x="204840" y="162000"/>
            <a:ext cx="8734320" cy="65340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2"/>
          <a:stretch/>
        </p:blipFill>
        <p:spPr>
          <a:xfrm>
            <a:off x="8028000" y="62064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3"/>
          <a:stretch/>
        </p:blipFill>
        <p:spPr>
          <a:xfrm>
            <a:off x="7524720" y="5603760"/>
            <a:ext cx="863640" cy="47304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4"/>
          <a:stretch/>
        </p:blipFill>
        <p:spPr>
          <a:xfrm>
            <a:off x="3924360" y="6165720"/>
            <a:ext cx="1224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68609" descr=""/>
          <p:cNvPicPr/>
          <p:nvPr/>
        </p:nvPicPr>
        <p:blipFill>
          <a:blip r:embed="rId1"/>
          <a:stretch/>
        </p:blipFill>
        <p:spPr>
          <a:xfrm>
            <a:off x="219240" y="836640"/>
            <a:ext cx="8705520" cy="4076640"/>
          </a:xfrm>
          <a:prstGeom prst="rect">
            <a:avLst/>
          </a:prstGeom>
          <a:ln w="0">
            <a:noFill/>
          </a:ln>
        </p:spPr>
      </p:pic>
      <p:pic>
        <p:nvPicPr>
          <p:cNvPr id="1461" name="图片 68610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1838520" cy="20671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3"/>
          <a:stretch/>
        </p:blipFill>
        <p:spPr>
          <a:xfrm>
            <a:off x="7956720" y="2752560"/>
            <a:ext cx="50472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7585" descr=""/>
          <p:cNvPicPr/>
          <p:nvPr/>
        </p:nvPicPr>
        <p:blipFill>
          <a:blip r:embed="rId1"/>
          <a:stretch/>
        </p:blipFill>
        <p:spPr>
          <a:xfrm>
            <a:off x="247680" y="692280"/>
            <a:ext cx="8648640" cy="397188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67586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2695680" cy="26193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8028000" y="242100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4"/>
          <a:stretch/>
        </p:blipFill>
        <p:spPr>
          <a:xfrm>
            <a:off x="2627280" y="4105440"/>
            <a:ext cx="72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66561" descr=""/>
          <p:cNvPicPr/>
          <p:nvPr/>
        </p:nvPicPr>
        <p:blipFill>
          <a:blip r:embed="rId1"/>
          <a:stretch/>
        </p:blipFill>
        <p:spPr>
          <a:xfrm>
            <a:off x="237960" y="765000"/>
            <a:ext cx="8668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65537" descr=""/>
          <p:cNvPicPr/>
          <p:nvPr/>
        </p:nvPicPr>
        <p:blipFill>
          <a:blip r:embed="rId1"/>
          <a:stretch/>
        </p:blipFill>
        <p:spPr>
          <a:xfrm>
            <a:off x="490680" y="884160"/>
            <a:ext cx="8162640" cy="53532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2"/>
          <a:stretch/>
        </p:blipFill>
        <p:spPr>
          <a:xfrm>
            <a:off x="468360" y="922320"/>
            <a:ext cx="4464000" cy="473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65539" descr=""/>
          <p:cNvPicPr/>
          <p:nvPr/>
        </p:nvPicPr>
        <p:blipFill>
          <a:blip r:embed="rId3"/>
          <a:stretch/>
        </p:blipFill>
        <p:spPr>
          <a:xfrm>
            <a:off x="6972480" y="936720"/>
            <a:ext cx="1847520" cy="22572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4"/>
          <a:stretch/>
        </p:blipFill>
        <p:spPr>
          <a:xfrm>
            <a:off x="4946760" y="938160"/>
            <a:ext cx="2001600" cy="47304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5"/>
          <a:stretch/>
        </p:blipFill>
        <p:spPr>
          <a:xfrm>
            <a:off x="611280" y="1498680"/>
            <a:ext cx="4968720" cy="4730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6"/>
          <a:stretch/>
        </p:blipFill>
        <p:spPr>
          <a:xfrm>
            <a:off x="5651640" y="1484280"/>
            <a:ext cx="1296720" cy="4730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7"/>
          <a:stretch/>
        </p:blipFill>
        <p:spPr>
          <a:xfrm>
            <a:off x="395280" y="2147760"/>
            <a:ext cx="3168720" cy="7765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8"/>
          <a:stretch/>
        </p:blipFill>
        <p:spPr>
          <a:xfrm>
            <a:off x="3635280" y="2276640"/>
            <a:ext cx="3313080" cy="47304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9"/>
          <a:stretch/>
        </p:blipFill>
        <p:spPr>
          <a:xfrm>
            <a:off x="611280" y="3025800"/>
            <a:ext cx="6337080" cy="47304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10"/>
          <a:stretch/>
        </p:blipFill>
        <p:spPr>
          <a:xfrm>
            <a:off x="250920" y="364500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" descr=""/>
          <p:cNvPicPr/>
          <p:nvPr/>
        </p:nvPicPr>
        <p:blipFill>
          <a:blip r:embed="rId11"/>
          <a:stretch/>
        </p:blipFill>
        <p:spPr>
          <a:xfrm>
            <a:off x="1476360" y="36450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12"/>
          <a:stretch/>
        </p:blipFill>
        <p:spPr>
          <a:xfrm>
            <a:off x="6300720" y="3687840"/>
            <a:ext cx="1297080" cy="47304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" descr=""/>
          <p:cNvPicPr/>
          <p:nvPr/>
        </p:nvPicPr>
        <p:blipFill>
          <a:blip r:embed="rId13"/>
          <a:stretch/>
        </p:blipFill>
        <p:spPr>
          <a:xfrm>
            <a:off x="250920" y="4221000"/>
            <a:ext cx="4176720" cy="4734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" descr=""/>
          <p:cNvPicPr/>
          <p:nvPr/>
        </p:nvPicPr>
        <p:blipFill>
          <a:blip r:embed="rId14"/>
          <a:stretch/>
        </p:blipFill>
        <p:spPr>
          <a:xfrm>
            <a:off x="539640" y="4797360"/>
            <a:ext cx="8209080" cy="4730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" descr=""/>
          <p:cNvPicPr/>
          <p:nvPr/>
        </p:nvPicPr>
        <p:blipFill>
          <a:blip r:embed="rId15"/>
          <a:stretch/>
        </p:blipFill>
        <p:spPr>
          <a:xfrm>
            <a:off x="324000" y="5445000"/>
            <a:ext cx="8208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组合 64515"/>
          <p:cNvGrpSpPr/>
          <p:nvPr/>
        </p:nvGrpSpPr>
        <p:grpSpPr>
          <a:xfrm>
            <a:off x="281160" y="692280"/>
            <a:ext cx="8611920" cy="4968720"/>
            <a:chOff x="281160" y="692280"/>
            <a:chExt cx="8611920" cy="4968720"/>
          </a:xfrm>
        </p:grpSpPr>
        <p:pic>
          <p:nvPicPr>
            <p:cNvPr id="1484" name="图片 64513" descr=""/>
            <p:cNvPicPr/>
            <p:nvPr/>
          </p:nvPicPr>
          <p:blipFill>
            <a:blip r:embed="rId1"/>
            <a:stretch/>
          </p:blipFill>
          <p:spPr>
            <a:xfrm>
              <a:off x="281160" y="692280"/>
              <a:ext cx="8581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图片 64514" descr=""/>
            <p:cNvPicPr/>
            <p:nvPr/>
          </p:nvPicPr>
          <p:blipFill>
            <a:blip r:embed="rId2"/>
            <a:stretch/>
          </p:blipFill>
          <p:spPr>
            <a:xfrm>
              <a:off x="606600" y="2612880"/>
              <a:ext cx="8286480" cy="304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6" name="Picture 1" descr=""/>
          <p:cNvPicPr/>
          <p:nvPr/>
        </p:nvPicPr>
        <p:blipFill>
          <a:blip r:embed="rId3"/>
          <a:stretch/>
        </p:blipFill>
        <p:spPr>
          <a:xfrm>
            <a:off x="684360" y="3673440"/>
            <a:ext cx="4032000" cy="47304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64517" descr=""/>
          <p:cNvPicPr/>
          <p:nvPr/>
        </p:nvPicPr>
        <p:blipFill>
          <a:blip r:embed="rId4"/>
          <a:stretch/>
        </p:blipFill>
        <p:spPr>
          <a:xfrm>
            <a:off x="6053040" y="2678040"/>
            <a:ext cx="2686320" cy="179064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" descr=""/>
          <p:cNvPicPr/>
          <p:nvPr/>
        </p:nvPicPr>
        <p:blipFill>
          <a:blip r:embed="rId5"/>
          <a:stretch/>
        </p:blipFill>
        <p:spPr>
          <a:xfrm>
            <a:off x="684360" y="4249800"/>
            <a:ext cx="4032000" cy="47304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" descr=""/>
          <p:cNvPicPr/>
          <p:nvPr/>
        </p:nvPicPr>
        <p:blipFill>
          <a:blip r:embed="rId6"/>
          <a:stretch/>
        </p:blipFill>
        <p:spPr>
          <a:xfrm>
            <a:off x="684360" y="4869000"/>
            <a:ext cx="5472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63490" descr=""/>
          <p:cNvPicPr/>
          <p:nvPr/>
        </p:nvPicPr>
        <p:blipFill>
          <a:blip r:embed="rId1"/>
          <a:stretch/>
        </p:blipFill>
        <p:spPr>
          <a:xfrm>
            <a:off x="1262160" y="2390760"/>
            <a:ext cx="6619680" cy="20764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6696000" cy="47304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6696360" cy="79200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4"/>
          <a:stretch/>
        </p:blipFill>
        <p:spPr>
          <a:xfrm>
            <a:off x="1187280" y="3948120"/>
            <a:ext cx="669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62465" descr=""/>
          <p:cNvPicPr/>
          <p:nvPr/>
        </p:nvPicPr>
        <p:blipFill>
          <a:blip r:embed="rId1"/>
          <a:stretch/>
        </p:blipFill>
        <p:spPr>
          <a:xfrm>
            <a:off x="1171440" y="981000"/>
            <a:ext cx="6801120" cy="489600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48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3"/>
          <a:stretch/>
        </p:blipFill>
        <p:spPr>
          <a:xfrm>
            <a:off x="1403280" y="1512720"/>
            <a:ext cx="6480360" cy="4734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" descr=""/>
          <p:cNvPicPr/>
          <p:nvPr/>
        </p:nvPicPr>
        <p:blipFill>
          <a:blip r:embed="rId4"/>
          <a:stretch/>
        </p:blipFill>
        <p:spPr>
          <a:xfrm>
            <a:off x="1332000" y="2031840"/>
            <a:ext cx="6480000" cy="4734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" descr=""/>
          <p:cNvPicPr/>
          <p:nvPr/>
        </p:nvPicPr>
        <p:blipFill>
          <a:blip r:embed="rId5"/>
          <a:stretch/>
        </p:blipFill>
        <p:spPr>
          <a:xfrm>
            <a:off x="1258920" y="2637000"/>
            <a:ext cx="6480000" cy="4730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1" descr=""/>
          <p:cNvPicPr/>
          <p:nvPr/>
        </p:nvPicPr>
        <p:blipFill>
          <a:blip r:embed="rId6"/>
          <a:stretch/>
        </p:blipFill>
        <p:spPr>
          <a:xfrm>
            <a:off x="1187280" y="3184560"/>
            <a:ext cx="6480360" cy="16128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" descr=""/>
          <p:cNvPicPr/>
          <p:nvPr/>
        </p:nvPicPr>
        <p:blipFill>
          <a:blip r:embed="rId7"/>
          <a:stretch/>
        </p:blipFill>
        <p:spPr>
          <a:xfrm>
            <a:off x="1258920" y="4809960"/>
            <a:ext cx="6480000" cy="47340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" descr=""/>
          <p:cNvPicPr/>
          <p:nvPr/>
        </p:nvPicPr>
        <p:blipFill>
          <a:blip r:embed="rId8"/>
          <a:stretch/>
        </p:blipFill>
        <p:spPr>
          <a:xfrm>
            <a:off x="1116000" y="5373720"/>
            <a:ext cx="64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61441" descr=""/>
          <p:cNvPicPr/>
          <p:nvPr/>
        </p:nvPicPr>
        <p:blipFill>
          <a:blip r:embed="rId1"/>
          <a:stretch/>
        </p:blipFill>
        <p:spPr>
          <a:xfrm>
            <a:off x="204840" y="763560"/>
            <a:ext cx="8734320" cy="590544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2"/>
          <a:stretch/>
        </p:blipFill>
        <p:spPr>
          <a:xfrm>
            <a:off x="755640" y="3443400"/>
            <a:ext cx="5256360" cy="473040"/>
          </a:xfrm>
          <a:prstGeom prst="rect">
            <a:avLst/>
          </a:prstGeom>
          <a:ln w="0">
            <a:noFill/>
          </a:ln>
        </p:spPr>
      </p:pic>
      <p:pic>
        <p:nvPicPr>
          <p:cNvPr id="1504" name="图片 61443" descr=""/>
          <p:cNvPicPr/>
          <p:nvPr/>
        </p:nvPicPr>
        <p:blipFill>
          <a:blip r:embed="rId3"/>
          <a:stretch/>
        </p:blipFill>
        <p:spPr>
          <a:xfrm>
            <a:off x="6370560" y="3484440"/>
            <a:ext cx="2476440" cy="212436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4"/>
          <a:stretch/>
        </p:blipFill>
        <p:spPr>
          <a:xfrm>
            <a:off x="684360" y="40338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232360" cy="47340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7"/>
          <a:stretch/>
        </p:blipFill>
        <p:spPr>
          <a:xfrm>
            <a:off x="3117960" y="4567320"/>
            <a:ext cx="2894040" cy="4730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" descr=""/>
          <p:cNvPicPr/>
          <p:nvPr/>
        </p:nvPicPr>
        <p:blipFill>
          <a:blip r:embed="rId8"/>
          <a:stretch/>
        </p:blipFill>
        <p:spPr>
          <a:xfrm>
            <a:off x="655560" y="515772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" descr=""/>
          <p:cNvPicPr/>
          <p:nvPr/>
        </p:nvPicPr>
        <p:blipFill>
          <a:blip r:embed="rId9"/>
          <a:stretch/>
        </p:blipFill>
        <p:spPr>
          <a:xfrm>
            <a:off x="2050920" y="5129280"/>
            <a:ext cx="2376720" cy="47304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10"/>
          <a:stretch/>
        </p:blipFill>
        <p:spPr>
          <a:xfrm>
            <a:off x="4500720" y="5129280"/>
            <a:ext cx="1655640" cy="4730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11"/>
          <a:stretch/>
        </p:blipFill>
        <p:spPr>
          <a:xfrm>
            <a:off x="684360" y="5675400"/>
            <a:ext cx="1366560" cy="47304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" descr=""/>
          <p:cNvPicPr/>
          <p:nvPr/>
        </p:nvPicPr>
        <p:blipFill>
          <a:blip r:embed="rId12"/>
          <a:stretch/>
        </p:blipFill>
        <p:spPr>
          <a:xfrm>
            <a:off x="2050920" y="5661000"/>
            <a:ext cx="2665440" cy="4730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" descr=""/>
          <p:cNvPicPr/>
          <p:nvPr/>
        </p:nvPicPr>
        <p:blipFill>
          <a:blip r:embed="rId13"/>
          <a:stretch/>
        </p:blipFill>
        <p:spPr>
          <a:xfrm>
            <a:off x="4716360" y="5676840"/>
            <a:ext cx="1656000" cy="47304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14"/>
          <a:stretch/>
        </p:blipFill>
        <p:spPr>
          <a:xfrm>
            <a:off x="554040" y="622296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15"/>
          <a:stretch/>
        </p:blipFill>
        <p:spPr>
          <a:xfrm>
            <a:off x="1979640" y="6194520"/>
            <a:ext cx="2592360" cy="4730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16"/>
          <a:stretch/>
        </p:blipFill>
        <p:spPr>
          <a:xfrm>
            <a:off x="4586400" y="6222960"/>
            <a:ext cx="43066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图片 70657" descr=""/>
          <p:cNvPicPr/>
          <p:nvPr/>
        </p:nvPicPr>
        <p:blipFill>
          <a:blip r:embed="rId1"/>
          <a:stretch/>
        </p:blipFill>
        <p:spPr>
          <a:xfrm>
            <a:off x="376200" y="851040"/>
            <a:ext cx="8391600" cy="545760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47304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3"/>
          <a:stretch/>
        </p:blipFill>
        <p:spPr>
          <a:xfrm>
            <a:off x="2771640" y="836640"/>
            <a:ext cx="3529080" cy="4730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" descr=""/>
          <p:cNvPicPr/>
          <p:nvPr/>
        </p:nvPicPr>
        <p:blipFill>
          <a:blip r:embed="rId5"/>
          <a:stretch/>
        </p:blipFill>
        <p:spPr>
          <a:xfrm>
            <a:off x="8388360" y="80820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" descr=""/>
          <p:cNvPicPr/>
          <p:nvPr/>
        </p:nvPicPr>
        <p:blipFill>
          <a:blip r:embed="rId6"/>
          <a:stretch/>
        </p:blipFill>
        <p:spPr>
          <a:xfrm>
            <a:off x="684360" y="1384200"/>
            <a:ext cx="1655640" cy="47304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" descr=""/>
          <p:cNvPicPr/>
          <p:nvPr/>
        </p:nvPicPr>
        <p:blipFill>
          <a:blip r:embed="rId7"/>
          <a:stretch/>
        </p:blipFill>
        <p:spPr>
          <a:xfrm>
            <a:off x="2340000" y="1355760"/>
            <a:ext cx="4176720" cy="4730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" descr=""/>
          <p:cNvPicPr/>
          <p:nvPr/>
        </p:nvPicPr>
        <p:blipFill>
          <a:blip r:embed="rId8"/>
          <a:stretch/>
        </p:blipFill>
        <p:spPr>
          <a:xfrm>
            <a:off x="539640" y="1989000"/>
            <a:ext cx="4176720" cy="15112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9"/>
          <a:stretch/>
        </p:blipFill>
        <p:spPr>
          <a:xfrm>
            <a:off x="611280" y="355932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10"/>
          <a:stretch/>
        </p:blipFill>
        <p:spPr>
          <a:xfrm>
            <a:off x="755640" y="4149720"/>
            <a:ext cx="6697800" cy="4730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"/>
          <p:cNvPicPr/>
          <p:nvPr/>
        </p:nvPicPr>
        <p:blipFill>
          <a:blip r:embed="rId11"/>
          <a:stretch/>
        </p:blipFill>
        <p:spPr>
          <a:xfrm>
            <a:off x="684360" y="466740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" descr=""/>
          <p:cNvPicPr/>
          <p:nvPr/>
        </p:nvPicPr>
        <p:blipFill>
          <a:blip r:embed="rId12"/>
          <a:stretch/>
        </p:blipFill>
        <p:spPr>
          <a:xfrm>
            <a:off x="611280" y="522936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" descr=""/>
          <p:cNvPicPr/>
          <p:nvPr/>
        </p:nvPicPr>
        <p:blipFill>
          <a:blip r:embed="rId13"/>
          <a:stretch/>
        </p:blipFill>
        <p:spPr>
          <a:xfrm>
            <a:off x="611280" y="5848200"/>
            <a:ext cx="66974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37960" y="857160"/>
            <a:ext cx="8668080" cy="51436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028000" y="3213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71681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8229600" cy="247680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2"/>
          <a:stretch/>
        </p:blipFill>
        <p:spPr>
          <a:xfrm>
            <a:off x="482760" y="2205000"/>
            <a:ext cx="5040000" cy="4730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" descr=""/>
          <p:cNvPicPr/>
          <p:nvPr/>
        </p:nvPicPr>
        <p:blipFill>
          <a:blip r:embed="rId3"/>
          <a:stretch/>
        </p:blipFill>
        <p:spPr>
          <a:xfrm>
            <a:off x="5580000" y="220500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" descr=""/>
          <p:cNvPicPr/>
          <p:nvPr/>
        </p:nvPicPr>
        <p:blipFill>
          <a:blip r:embed="rId4"/>
          <a:stretch/>
        </p:blipFill>
        <p:spPr>
          <a:xfrm>
            <a:off x="468360" y="2736720"/>
            <a:ext cx="7775640" cy="47304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" descr=""/>
          <p:cNvPicPr/>
          <p:nvPr/>
        </p:nvPicPr>
        <p:blipFill>
          <a:blip r:embed="rId5"/>
          <a:stretch/>
        </p:blipFill>
        <p:spPr>
          <a:xfrm>
            <a:off x="8244000" y="270828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" descr=""/>
          <p:cNvPicPr/>
          <p:nvPr/>
        </p:nvPicPr>
        <p:blipFill>
          <a:blip r:embed="rId6"/>
          <a:stretch/>
        </p:blipFill>
        <p:spPr>
          <a:xfrm>
            <a:off x="539640" y="3298680"/>
            <a:ext cx="3311640" cy="4734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" descr=""/>
          <p:cNvPicPr/>
          <p:nvPr/>
        </p:nvPicPr>
        <p:blipFill>
          <a:blip r:embed="rId7"/>
          <a:stretch/>
        </p:blipFill>
        <p:spPr>
          <a:xfrm>
            <a:off x="3924360" y="3298680"/>
            <a:ext cx="2087640" cy="47340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" descr=""/>
          <p:cNvPicPr/>
          <p:nvPr/>
        </p:nvPicPr>
        <p:blipFill>
          <a:blip r:embed="rId8"/>
          <a:stretch/>
        </p:blipFill>
        <p:spPr>
          <a:xfrm>
            <a:off x="6084720" y="3284640"/>
            <a:ext cx="2087640" cy="47304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" descr=""/>
          <p:cNvPicPr/>
          <p:nvPr/>
        </p:nvPicPr>
        <p:blipFill>
          <a:blip r:embed="rId9"/>
          <a:stretch/>
        </p:blipFill>
        <p:spPr>
          <a:xfrm>
            <a:off x="8244000" y="3298680"/>
            <a:ext cx="504720" cy="473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" descr=""/>
          <p:cNvPicPr/>
          <p:nvPr/>
        </p:nvPicPr>
        <p:blipFill>
          <a:blip r:embed="rId10"/>
          <a:stretch/>
        </p:blipFill>
        <p:spPr>
          <a:xfrm>
            <a:off x="468360" y="3905280"/>
            <a:ext cx="4967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59410" descr=""/>
          <p:cNvPicPr/>
          <p:nvPr/>
        </p:nvPicPr>
        <p:blipFill>
          <a:blip r:embed="rId1"/>
          <a:stretch/>
        </p:blipFill>
        <p:spPr>
          <a:xfrm>
            <a:off x="162000" y="1566720"/>
            <a:ext cx="8820000" cy="372456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2"/>
          <a:stretch/>
        </p:blipFill>
        <p:spPr>
          <a:xfrm>
            <a:off x="8028000" y="2205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58373" descr=""/>
          <p:cNvPicPr/>
          <p:nvPr/>
        </p:nvPicPr>
        <p:blipFill>
          <a:blip r:embed="rId1"/>
          <a:stretch/>
        </p:blipFill>
        <p:spPr>
          <a:xfrm>
            <a:off x="176040" y="814320"/>
            <a:ext cx="8791920" cy="522936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3564000" y="3112920"/>
            <a:ext cx="504720" cy="473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" descr=""/>
          <p:cNvPicPr/>
          <p:nvPr/>
        </p:nvPicPr>
        <p:blipFill>
          <a:blip r:embed="rId3"/>
          <a:stretch/>
        </p:blipFill>
        <p:spPr>
          <a:xfrm>
            <a:off x="8028000" y="4437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57352" descr=""/>
          <p:cNvPicPr/>
          <p:nvPr/>
        </p:nvPicPr>
        <p:blipFill>
          <a:blip r:embed="rId1"/>
          <a:stretch/>
        </p:blipFill>
        <p:spPr>
          <a:xfrm>
            <a:off x="219240" y="876240"/>
            <a:ext cx="8705520" cy="51055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2"/>
          <a:stretch/>
        </p:blipFill>
        <p:spPr>
          <a:xfrm>
            <a:off x="8028000" y="1413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56324" descr=""/>
          <p:cNvPicPr/>
          <p:nvPr/>
        </p:nvPicPr>
        <p:blipFill>
          <a:blip r:embed="rId1"/>
          <a:stretch/>
        </p:blipFill>
        <p:spPr>
          <a:xfrm>
            <a:off x="638280" y="809640"/>
            <a:ext cx="7867440" cy="52387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2"/>
          <a:stretch/>
        </p:blipFill>
        <p:spPr>
          <a:xfrm>
            <a:off x="971640" y="5013360"/>
            <a:ext cx="7488000" cy="47304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56326" descr=""/>
          <p:cNvPicPr/>
          <p:nvPr/>
        </p:nvPicPr>
        <p:blipFill>
          <a:blip r:embed="rId3"/>
          <a:stretch/>
        </p:blipFill>
        <p:spPr>
          <a:xfrm>
            <a:off x="2989440" y="785880"/>
            <a:ext cx="4000320" cy="347652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1" descr=""/>
          <p:cNvPicPr/>
          <p:nvPr/>
        </p:nvPicPr>
        <p:blipFill>
          <a:blip r:embed="rId4"/>
          <a:stretch/>
        </p:blipFill>
        <p:spPr>
          <a:xfrm>
            <a:off x="1116000" y="5516640"/>
            <a:ext cx="7488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55300" descr=""/>
          <p:cNvPicPr/>
          <p:nvPr/>
        </p:nvPicPr>
        <p:blipFill>
          <a:blip r:embed="rId1"/>
          <a:stretch/>
        </p:blipFill>
        <p:spPr>
          <a:xfrm>
            <a:off x="243000" y="1652760"/>
            <a:ext cx="8658000" cy="35524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2"/>
          <a:stretch/>
        </p:blipFill>
        <p:spPr>
          <a:xfrm>
            <a:off x="8028000" y="28242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组合 54278"/>
          <p:cNvGrpSpPr/>
          <p:nvPr/>
        </p:nvGrpSpPr>
        <p:grpSpPr>
          <a:xfrm>
            <a:off x="243000" y="768240"/>
            <a:ext cx="8658000" cy="5900760"/>
            <a:chOff x="243000" y="768240"/>
            <a:chExt cx="8658000" cy="5900760"/>
          </a:xfrm>
        </p:grpSpPr>
        <p:pic>
          <p:nvPicPr>
            <p:cNvPr id="1449" name="图片 54276" descr=""/>
            <p:cNvPicPr/>
            <p:nvPr/>
          </p:nvPicPr>
          <p:blipFill>
            <a:blip r:embed="rId1"/>
            <a:stretch/>
          </p:blipFill>
          <p:spPr>
            <a:xfrm>
              <a:off x="243000" y="768240"/>
              <a:ext cx="8658000" cy="58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图片 54277" descr=""/>
            <p:cNvPicPr/>
            <p:nvPr/>
          </p:nvPicPr>
          <p:blipFill>
            <a:blip r:embed="rId2"/>
            <a:stretch/>
          </p:blipFill>
          <p:spPr>
            <a:xfrm>
              <a:off x="5076720" y="4149720"/>
              <a:ext cx="3024360" cy="25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1" name="Picture 1" descr=""/>
          <p:cNvPicPr/>
          <p:nvPr/>
        </p:nvPicPr>
        <p:blipFill>
          <a:blip r:embed="rId3"/>
          <a:stretch/>
        </p:blipFill>
        <p:spPr>
          <a:xfrm>
            <a:off x="8099280" y="2708280"/>
            <a:ext cx="505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组合 52233"/>
          <p:cNvGrpSpPr/>
          <p:nvPr/>
        </p:nvGrpSpPr>
        <p:grpSpPr>
          <a:xfrm>
            <a:off x="195120" y="907920"/>
            <a:ext cx="8753760" cy="4978440"/>
            <a:chOff x="195120" y="907920"/>
            <a:chExt cx="8753760" cy="4978440"/>
          </a:xfrm>
        </p:grpSpPr>
        <p:pic>
          <p:nvPicPr>
            <p:cNvPr id="1453" name="图片 52231" descr=""/>
            <p:cNvPicPr/>
            <p:nvPr/>
          </p:nvPicPr>
          <p:blipFill>
            <a:blip r:embed="rId1"/>
            <a:stretch/>
          </p:blipFill>
          <p:spPr>
            <a:xfrm>
              <a:off x="195120" y="971640"/>
              <a:ext cx="8753760" cy="49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图片 52232" descr=""/>
            <p:cNvPicPr/>
            <p:nvPr/>
          </p:nvPicPr>
          <p:blipFill>
            <a:blip r:embed="rId2"/>
            <a:stretch/>
          </p:blipFill>
          <p:spPr>
            <a:xfrm>
              <a:off x="1116000" y="907920"/>
              <a:ext cx="3456000" cy="28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8101080" y="4869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29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